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C05D-38BB-4B41-BDE4-1E217330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4D8B-ED0F-49AA-9856-D5D00DD0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9FC7-98F4-40DB-A0C3-2F32D3A3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45F1-05CB-4E93-A14C-D29A0876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32AE-F6E4-4917-BF92-B25E4724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5F98-CD0A-4C37-AB9C-B76F812B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51DF-3483-43FC-A969-2C21DDDA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D6EC-C7BB-409D-953D-95FFC16D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E0B8-63A4-4550-B762-DECE60F5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D23F-7340-49EC-A192-8D958AE5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AD56-781C-405F-A0CD-7781D10D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FBFC-D29F-4F87-8578-0EDBDD80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D838-1D55-49A8-AE6E-FB85853C4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686800" cy="701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orning Warm- Up</a:t>
            </a:r>
            <a:br>
              <a:rPr sz="10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Today you will read about a birthday.  One friend had the freedom to come early to help set up a game. The mother and father helped too.  Why are family celebrations special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686800" cy="701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orning Warm- Up</a:t>
            </a:r>
            <a:br>
              <a:rPr sz="10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Today we will read a story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about a girl named Cecilia. She is having a party for her tía. She must decide what gift to give her. Have you ever been to a surprise party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-304920"/>
            <a:ext cx="8686800" cy="731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1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We will read about Magda again today. Magda is helpful in the kitchen.  Magda works slowly,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while Abuela works quickly.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Magda may not make her tortillas perfectly round, but people like them. What would you like to learn how to ma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800"/>
            </a:b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Today we will read about family birthday traditions. When is your birthday? Does your family have special birthday tradition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-228600"/>
            <a:ext cx="8686800" cy="739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0" i="1" lang="en-US" sz="5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16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This week we read about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birthday traditions and customs. Celebrations create lasting memories. 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Why are family celebrations special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2:11:12Z</dcterms:created>
  <dc:creator> </dc:creator>
  <dc:description/>
  <dc:language>en-US</dc:language>
  <cp:lastModifiedBy>teacher</cp:lastModifiedBy>
  <dcterms:modified xsi:type="dcterms:W3CDTF">2011-04-24T01:34:47Z</dcterms:modified>
  <cp:revision>61</cp:revision>
  <dc:subject/>
  <dc:title> Morning Warm- Up! The cat needs some water.  The dog wants a bone.  That bird lives in a birdhouse where she feels quite at home.  How do people take care of pets?</dc:title>
</cp:coreProperties>
</file>